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6FF-EBE7-422C-B930-E6764BE3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795-B0BA-4301-AB83-85E9E447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F01-CFEA-4CCD-BAEA-B22CD6B3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C57-B03D-4303-A207-D2C06AFB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091-124A-4952-BD5D-51DCB98D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3377-ACF6-4A6B-ABA5-664247B0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CCFE-7A33-4F77-B757-9FA8A304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C5DA-94E5-456E-81A5-AB0A7077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E00A-1940-454C-BC1A-805AEF5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468-D43F-41E9-95D1-2E55CF42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D3D-F8C6-47AA-9D83-4C858D58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4C0-BE59-4176-A922-91A33D6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2F6C-42AE-41F9-AE94-4FE6CA1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7E1E-51EE-4981-B4E8-3328FF7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5E1-60A0-47BE-8647-8E6111E1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D2B-9486-44C3-B656-51B3842C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91E4-B794-4295-BB28-097B82C2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B0B-9017-4BD6-90CD-EC3952EC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A31-AD04-4ACA-897F-5542401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4F6-6D09-44DE-8407-0861ADC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204-F56B-40F0-889D-80ADA16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DE6-A093-4972-BD7B-8017AD1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594-EA01-4406-B4AF-B57D1C6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04E-9633-459A-BF5C-0B10337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F6A0-80DA-4BD4-A7A3-EE0E52F4DB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D7C-BDFD-4F81-BBD1-CA61E599C6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28760"/>
            <a:ext cx="78930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ПАРТАМЕНТ ПО ФИЗИЧЕСКОЙ КУЛЬТУР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ПОРТУ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ФЕДЕРАЦИЯ ЛЕГКОЙ АТЛЕТИКИ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2857680"/>
            <a:ext cx="70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Чемпионат и первенство ЮФО, С-КФО среди молодежи (90-92 гг.р.), юниоров (93-94 гг.р.), юношей и девушек (95-96 гг.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7-10.06.2012 г.               г. Краснодар ст. Сормовская 1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 «Динамо»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Чемпионат и первенство ЮФО, С-КФО среди молодежи (90-92 гг.р.), юниоров (93-94 гг.р.), юношей и девушек (95-96 гг.р.)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421000"/>
          <a:ext cx="7499160" cy="3352680"/>
        </p:xfrm>
        <a:graphic>
          <a:graphicData uri="http://schemas.openxmlformats.org/drawingml/2006/table">
            <a:tbl>
              <a:tblPr/>
              <a:tblGrid>
                <a:gridCol w="4329000"/>
                <a:gridCol w="1730520"/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Б. Шпит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Ф. Бой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Ф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Ю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А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Ро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6-10T09:53:05Z</cp:lastPrinted>
  <dcterms:modified xsi:type="dcterms:W3CDTF">2012-06-13T07:29:46Z</dcterms:modified>
  <cp:revision>21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